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7772400" cy="100584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07960" y="-360"/>
            <a:ext cx="319428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07848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4107960" y="9078480"/>
            <a:ext cx="319428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fld id="{3AB72B97-0249-4A5E-A1B8-5C1BE48D78D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803240" y="439560"/>
            <a:ext cx="3700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730440" y="4553640"/>
            <a:ext cx="58431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07960" y="9078480"/>
            <a:ext cx="319428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fld id="{864BA83F-56EC-4B10-BF50-0B69054AF006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907848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-36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260440" y="719280"/>
            <a:ext cx="2778120" cy="3595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537-9B1C-4763-B386-3186B876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6345000"/>
            <a:ext cx="609624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AA7-7B31-4F69-BCAA-633B8FB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180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551-417A-4352-B4E7-1ED060A9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99440" y="32004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60440" y="32004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63450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99440" y="63450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60440" y="63450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63D-A3A7-4C3D-ACC5-C911E232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79A-BD53-48B1-A4CF-0087D50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3E8-299D-465B-B889-6C4DEF1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B94-F267-4431-AFF1-60D0094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A1F-0D55-47AF-A8AC-C2CF7B17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2640" y="4162680"/>
            <a:ext cx="1527120" cy="201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631-8D00-4702-BA2C-C3A9D0D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D2A-7F5A-4B87-B16C-D499AC1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180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4A8-2671-46E4-B351-72F6664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6345000"/>
            <a:ext cx="609624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50E-3C2C-4D79-939A-19FDF00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79CC-C0A0-4356-9501-A8118A2B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1162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1162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97040" indent="-189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18900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SzPct val="50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00320" indent="-189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50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00320" indent="-189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50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2920" y="533520"/>
            <a:ext cx="1668600" cy="8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 Antiqua"/>
              </a:rPr>
              <a:t>Policy Governance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544680"/>
            <a:ext cx="175248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oundary Management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09480" y="542880"/>
            <a:ext cx="60984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MPsych@email.msn.com" TargetMode="External"/><Relationship Id="rId2" Type="http://schemas.openxmlformats.org/officeDocument/2006/relationships/hyperlink" Target="http://www.boundarymanagement.com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600" y="1875960"/>
            <a:ext cx="6664320" cy="356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136440" bIns="13644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Creating </a:t>
            </a:r>
            <a:br>
              <a:rPr sz="7200"/>
            </a:b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Accountability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0292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960" y="6477120"/>
            <a:ext cx="27406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ation Develop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nn A. Walker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ker Management Psychologis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 Castle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MO 6314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4-576-57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MPsych@email.msn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BoundaryManageme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348-91EC-454D-86BA-F83252FA07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1395360"/>
            <a:ext cx="326376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ritical role in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ften ignored until a major problem exist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st boards and managers will need to learn to monitor bette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14A-AC5D-429A-BBC4-31E5CB452A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30040" y="1363680"/>
            <a:ext cx="553068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itoring Repor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ate the Boundary or Limit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ate Compliance/Non-Complian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of of Compliance/Non-Complian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rrective Actions if Needed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105-0036-4746-9522-C0DBE8F72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7960" y="1363320"/>
            <a:ext cx="6248160" cy="1415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eating Accountability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System Fail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ew organizational systems support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any organizational systems reduce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st popular management theories run counter to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st attempts to increase accountability decrease both accountability and author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83A-9530-4F2D-94B7-CB05D4426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6800" y="1363320"/>
            <a:ext cx="5719680" cy="1536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Accountabilit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 Importa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 is directly related to one’s value and self-worth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 assures an acceptable level of discipline for individuals and group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 assures that true priorities are identified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585-FABB-4008-9352-4C2F09607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5480" y="1363680"/>
            <a:ext cx="326520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s or results which an individual is obliged to achie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s rather than results carry the bulk of what people mean when they speak of responsi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 or results for which an individual is obliged to achieve and is answerable to someone else about their statu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e Difference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quirement to report or monitor that the tasks and results have been achie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457-7529-4549-B128-21EA50E56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4240" y="1363320"/>
            <a:ext cx="4570200" cy="1536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Misguide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ttemp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replaces the need to accomplish the task or result with a disciplinary action – accountability is usually reduced or elimin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umanistic Managemen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s a mixed messages about being positive and holding people accountable – accountability is usually reduced in an attempt to coach, train, and sup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C57-D7D7-4D37-9918-1D93DD36B4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8560" y="1363680"/>
            <a:ext cx="599904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tter Accountabil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6080" y="40384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791320"/>
            <a:ext cx="2133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ve Ac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6480" y="403848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3" idx="0"/>
          </p:cNvCxnSpPr>
          <p:nvPr/>
        </p:nvCxnSpPr>
        <p:spPr>
          <a:xfrm flipH="1" flipV="1" rot="5400000">
            <a:off x="2514240" y="2666160"/>
            <a:ext cx="1143720" cy="160092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endCxn id="65" idx="0"/>
          </p:cNvCxnSpPr>
          <p:nvPr/>
        </p:nvCxnSpPr>
        <p:spPr>
          <a:xfrm>
            <a:off x="3885840" y="2895120"/>
            <a:ext cx="1600920" cy="11437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5" idx="2"/>
            <a:endCxn id="64" idx="3"/>
          </p:cNvCxnSpPr>
          <p:nvPr/>
        </p:nvCxnSpPr>
        <p:spPr>
          <a:xfrm rot="5400000">
            <a:off x="4489560" y="5088600"/>
            <a:ext cx="145944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1"/>
            <a:endCxn id="63" idx="2"/>
          </p:cNvCxnSpPr>
          <p:nvPr/>
        </p:nvCxnSpPr>
        <p:spPr>
          <a:xfrm rot="10800000">
            <a:off x="2285280" y="4872960"/>
            <a:ext cx="534240" cy="12117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69B-15EE-48BF-B3FD-D32D808E4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395360"/>
            <a:ext cx="533376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he Yes Effec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2160" y="3124080"/>
            <a:ext cx="5786640" cy="3353040"/>
          </a:xfrm>
          <a:prstGeom prst="rect">
            <a:avLst/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1800" y="4022640"/>
            <a:ext cx="174600" cy="168480"/>
          </a:xfrm>
          <a:prstGeom prst="ellipse">
            <a:avLst/>
          </a:prstGeom>
          <a:solidFill>
            <a:srgbClr val="ffffff"/>
          </a:solidFill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6560" y="251460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ssibl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876920"/>
            <a:ext cx="11430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06666"/>
              <a:gd name="adj5" fmla="val -156666"/>
              <a:gd name="adj6" fmla="val 165277"/>
            </a:avLst>
          </a:prstGeom>
          <a:solidFill>
            <a:srgbClr val="000099"/>
          </a:solidFill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7617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73000" y="6781680"/>
            <a:ext cx="602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Yes Eff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a parent-to-child relation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qui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ssion and forg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4440" y="8839080"/>
            <a:ext cx="24235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ker Managemen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ychologist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981-B9D9-4673-8ACE-C30B72B9C8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90680" y="1363680"/>
            <a:ext cx="500544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undary The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3048120"/>
            <a:ext cx="5867280" cy="3436920"/>
          </a:xfrm>
          <a:prstGeom prst="rect">
            <a:avLst/>
          </a:prstGeom>
          <a:solidFill>
            <a:srgbClr val="0000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71880" y="3249720"/>
            <a:ext cx="4267080" cy="3033720"/>
          </a:xfrm>
          <a:prstGeom prst="ellipse">
            <a:avLst/>
          </a:prstGeom>
          <a:solidFill>
            <a:srgbClr val="ffffff"/>
          </a:solidFill>
          <a:ln w="66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5600" y="335124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7292880"/>
            <a:ext cx="294300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159" y="-35100"/>
                </a:moveTo>
                <a:lnTo>
                  <a:pt x="22159" y="16971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oundary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4440" y="8839080"/>
            <a:ext cx="24235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ker Managemen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ychologist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D17-BB80-4F4E-822B-561551BCA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2360" y="1363320"/>
            <a:ext cx="4759560" cy="1536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nal/Externa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xternal Motiv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hieve tasks or resul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corrective actions when tasks or results are not achie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rnal Motiv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hieve tasks or resul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corrective actions when tasks or results are not achie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ork to correct systemic probl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F72-185F-4A9F-A306-A1179D7AC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9-15T13:39:58Z</dcterms:created>
  <dc:creator>Lynn A. Walker, Ph.D.</dc:creator>
  <dc:description/>
  <dc:language>en-US</dc:language>
  <cp:lastModifiedBy>Lynn A. Walker, Ph.D.</cp:lastModifiedBy>
  <cp:lastPrinted>1999-04-18T17:18:49Z</cp:lastPrinted>
  <dcterms:modified xsi:type="dcterms:W3CDTF">2003-12-04T16:14:43Z</dcterms:modified>
  <cp:revision>130</cp:revision>
  <dc:subject/>
  <dc:title>Policy Based  Leadership for Texas District</dc:title>
</cp:coreProperties>
</file>